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7C4-955E-4D31-9D7E-3D28DEB0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6AC-06E8-4522-85F8-44863900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30A-A988-448D-8B04-9CB7F220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A39-E035-4486-A4CC-6C8AC1F7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F7F-A312-4BE5-9B41-D1F3546A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D48-8DF0-428F-B38A-2ED15090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82E-FC86-4D48-BEF6-80422835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2A1-EA2B-481E-AF18-DA8F9D11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02DF-E23E-4037-8041-492EE98A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DD7-6147-441C-BB0D-DB5235AF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42B-CC4B-4A12-A22C-A7C332EA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14B-E595-46D1-8EAD-B41FC4B4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4CD0-4223-45CA-85CD-E14010319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إيحاء الله إلى رجل من البشر أمر موافق للحكمة لا محل استغراب وتعج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6386400" cy="66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968400" y="3141720"/>
            <a:ext cx="794844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1547640" y="1700280"/>
            <a:ext cx="7272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952720" y="5229360"/>
            <a:ext cx="3238560" cy="59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844640"/>
            <a:ext cx="8664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أعلم بمراد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062080" y="981000"/>
            <a:ext cx="67010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00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3357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43000" y="422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رسل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ب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رسول دج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-15840" y="866880"/>
            <a:ext cx="9159840" cy="90648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3059280" y="104760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قرآن الكريم كتاب محكم واضح م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ما اشتمل عليه من حلال وحرام وحدود وأحك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يحاء الله إلى رجل من البشر أم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وافق للحكمة لا محل استغراب وتع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بوة محمد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شرى أهل الإيمان والعمل الصال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ما أعد الله لهم من النع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دة تعجب العرب من بلاغة وفصا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رآن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صف المشركون القرآن الكريم ب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سح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642160" cy="42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8172360" y="351792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8172360" y="445464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2195640" y="2421000"/>
            <a:ext cx="533160" cy="5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7"/>
          <a:stretch/>
        </p:blipFill>
        <p:spPr>
          <a:xfrm>
            <a:off x="2166840" y="4508640"/>
            <a:ext cx="5335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5:29:29Z</dcterms:modified>
  <cp:revision>1888</cp:revision>
  <dc:subject/>
  <dc:title>عرض تقديمي في PowerPoint</dc:title>
</cp:coreProperties>
</file>